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72A-34A5-4F83-9CB8-814D41C8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27A-BB1C-468D-A349-7E9AA08C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ECBB-5969-4E95-86E0-52FA255C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183-CFDC-4604-BDA7-CDE96AB8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9E17-3D10-412D-870C-3F94FC4D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08E4-2C0F-482D-8C84-3C7A7F31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F0D-FA78-4088-A3B8-2DB60636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5716-D480-4256-8074-9A4D0946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FACD-8ED2-434D-9545-2AC9797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5522-1877-41A9-A7C3-4B87B5AA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E447-B290-4892-86F5-57A5EB7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B28-51AE-4F84-BD6B-FF7FC11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19E4-07B0-44E7-87A9-71E23AB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B2D3-BA31-41C0-8C50-9D5A42F4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12B7-23DE-4F9A-8015-675F01EA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AC6-F165-4854-8E7C-749CA41C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CCD3-78A3-484E-90B8-625910F5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6A7-F2D6-4F37-BA65-BC4AEFD5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6A11-98BC-4AB9-AF15-E94EB6C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CFA-DF6E-4DC2-AB9C-D57741C3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6A7-B9AE-4A84-8CCA-073FCFF2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5D1-1C5E-416B-AB60-5E7D00D6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E15-E8D3-4297-A7CB-D2FFF3CC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C24-42D5-4CA1-A7BE-2602D5E3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A4CD-3FAD-4BB8-9CA4-EF7D0C58D7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43D2-DDB2-4AC3-94D9-4C9B9E23303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1647 Status for March ‘05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nalized the LR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olved over 500 issues in the proc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4 active authors feeding into the edi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out 20 reviewers, some very thorough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roved the LR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G unanimously approved (28 voting members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aiting for the ballot to sta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allot group was form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6 total, 21 general interest, 14 producer, 21 use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RM under SA editorial staff review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056040" y="58212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ahoma"/>
              </a:rPr>
              <a:t>www.ieee1647.org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Yaron Kashai</cp:lastModifiedBy>
  <dcterms:modified xsi:type="dcterms:W3CDTF">2005-09-09T18:46:04Z</dcterms:modified>
  <cp:revision>47</cp:revision>
  <dc:subject/>
  <dc:title>PowerPoint Presentation</dc:title>
</cp:coreProperties>
</file>