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E7E20-C88A-4F87-AA2C-8508253A75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3843720"/>
            <a:ext cx="77724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D8B4D-0D72-4350-8EFE-D73B0427B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134100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384372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384372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2F989-0FA6-402E-B375-300150A6B2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2502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1341000"/>
            <a:ext cx="2502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1341000"/>
            <a:ext cx="2502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3843720"/>
            <a:ext cx="2502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3843720"/>
            <a:ext cx="2502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3843720"/>
            <a:ext cx="2502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E1766-F07B-4FB8-8D72-808CF89DE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6264D-2814-4E48-A447-1928211412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9DCA8-7858-432C-99B3-50024AE38C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D8F4B-4B01-4688-90FB-8C8351E376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926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1341000"/>
            <a:ext cx="37926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BE235-6810-4B4F-89BB-F331CFE891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339FE-5141-426A-B8CE-9632DC1A6D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7FED5-254F-4166-9697-37B40B8A5C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1341000"/>
            <a:ext cx="37926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384372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55B2F-8C84-4961-ADCD-80ECBEB290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1A373-DE7A-4E0E-91A5-E17302ED7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926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134100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384372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27D70-3135-4E69-9BA2-DEE37F6EFB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34100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3843720"/>
            <a:ext cx="77724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44315-036D-4590-8051-3D40B8F46F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3843720"/>
            <a:ext cx="77724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196BB-5FCC-44FF-9AE5-7FB71C32FE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134100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384372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384372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AF475-8258-43EB-9D33-A9F85115B2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2502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1341000"/>
            <a:ext cx="2502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1341000"/>
            <a:ext cx="2502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3843720"/>
            <a:ext cx="2502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3843720"/>
            <a:ext cx="2502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3843720"/>
            <a:ext cx="250236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A2F32-8612-4D60-A99A-C1F84B7F27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38274-3006-497B-BDA8-414871790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926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1341000"/>
            <a:ext cx="37926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E0292-531C-46BF-9A50-352CCCB36F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FD75C-490D-48E2-A825-A68E6A7E9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5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F1518-02D7-43B4-B66C-4FD271FC3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1341000"/>
            <a:ext cx="37926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384372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9B620-28B3-4C9A-9661-1330588637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926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134100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384372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3122C-D13B-4EF9-ABC1-55D07DADB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341000"/>
            <a:ext cx="37926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43720"/>
            <a:ext cx="7772400" cy="22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85DDA-8D82-4C11-B3BC-3B20B3B179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3682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36828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79056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7905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7174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260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0508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2195640" y="6243480"/>
            <a:ext cx="46814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7092720" y="6237360"/>
            <a:ext cx="6476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1168-8EB8-400A-821D-E940EF0BFF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179280" y="6375240"/>
            <a:ext cx="1706760" cy="48276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7885080" y="6308640"/>
            <a:ext cx="1068480" cy="35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440080" y="333360"/>
            <a:ext cx="4263840" cy="12063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ftr" idx="3"/>
          </p:nvPr>
        </p:nvSpPr>
        <p:spPr>
          <a:xfrm>
            <a:off x="1258920" y="6243480"/>
            <a:ext cx="662616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4"/>
          </p:nvPr>
        </p:nvSpPr>
        <p:spPr>
          <a:xfrm>
            <a:off x="8101080" y="6243480"/>
            <a:ext cx="84600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3935-ABE7-4C4E-B9E8-8715C1C547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DASC-procedures-adopted.pdf" TargetMode="External"/><Relationship Id="rId2" Type="http://schemas.openxmlformats.org/officeDocument/2006/relationships/hyperlink" Target="file:///DASC-procedures-adopted.pdf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dasc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2005-06/DASC-SC_June05_minutes.pdf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SC Steering Committe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 September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500280" y="1557360"/>
            <a:ext cx="2143440" cy="714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0920" y="4653000"/>
            <a:ext cx="4105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ter Ashend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ter@ashenden.com.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SC C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653000"/>
            <a:ext cx="4105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ctor Berma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erman@cadence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SC Vice C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7. Liaison Representa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-CS/SAB: Peter Ashen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C TC93 Design Automation: Alex Zamfiresc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ITA, EDA Technical Committ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ITA Liaison to DASC: Satoshi Koji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C Liaison to JEITA: Victor Berm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C Chai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 offic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n DATC EX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C Chai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 offic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n DASC-S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D TC: Victor Berm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llera: Victor Berm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 DASC Steering Committee - 19 Sep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FC063-7286-4C18-81CE-DF6C383C35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. Project Repor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76: VHDL (Stephen Baile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76.1: VHDL-AMS (Alain Vachoux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76.1.1: VHDL-AMS - Packages for Energy Domains (Alan Mantoo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76.4: VITAL (Ajay Varika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364/1800: Verilog/SystemVerilog (Johny Srouj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481: OLA (John Beat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03: ALF (Wolfgang Roethi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 DASC Steering Committee - 19 Sep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514AD-2278-42BD-A315-E78F8B5918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. Project Repor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47: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erification Language (Yaron Kasha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66: SystemC (Victor Berma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5: SPIRIT (Victor Berma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850: PSL (Harry Fos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 DASC Steering Committee - 19 Sep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D0173-E692-4012-AC52-C0DBDC9CAB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9. Study Group Repor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 DASC Steering Committee - 19 Sep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AAA1A-EC98-4CF0-AC65-707922513A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. DASC Patent Poli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osed change to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DASC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P&amp;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ete all of clause 6 except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nten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andards developed by DASC shall conform to the IEEE-SA Standards Board’s Bylaws regarding patents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 DASC Steering Committee - 19 Sep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4FCBB-EC79-4C37-85D2-6D265EBC06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. Dissemination of Stds 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an issue for other SAB spons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June SAB mee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B preparing proposal for SAS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SC to monitor and advise w.r.t. ou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 DASC Steering Committee - 19 Sep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BC61B-F1E0-4901-9D94-D407043D15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. Other Busi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SC-SC Officer election due by December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SC Plenary (Ale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 DASC Steering Committee - 19 Sep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26246-E4B9-4449-B771-C90A0D43CC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1. Activities, Meetin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A Standards Workshop (Berma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and Application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. Numerics sum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llaboration with DATC, TTTC/TTSC,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SC-SC meeting sche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06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nuary: EDS Fair, 26-27 January, Jap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ch: DATE, 6-10 March, Munich, Germ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ly: DAC, 24-28 July, San Francis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tember: Piscataway, N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 DASC Steering Committee - 19 Sep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110E9-08BA-4201-A05E-965154163A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2. Adjour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eting minutes to be posted a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dasc.or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 DASC Steering Committee - 19 Sep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331EA-12F8-43D9-8DB4-195D159FD0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SC-SC Voting Memb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ter Ashenden (Cha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ctor Berman (Vice-Chair, P1666, P168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phen Bailey (Secretary, P1076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z Levia (Treasur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ain Vachoux (P1076.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an Mantooth (P1076.1.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jay Varikat (P1076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hny Srouji (P1364, P18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hn Beatty (P148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lfgang Roethig (P160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aron Kashai (P164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ry Foster (P185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vid Barton (DATC Cha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5796000" y="4797360"/>
            <a:ext cx="2952720" cy="1152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ting members: currently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orum: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 DASC Steering Committee - 19 Sep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99BB4-C627-4B27-AF40-8A8D3381D6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381024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to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ard Pres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utes of meeting, 17 Jun 05, Anahei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iness arising from the min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ort of business conducted by em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ncial 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orts from Liaison Representa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4760" y="1341000"/>
            <a:ext cx="380988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ct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y Group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busi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ent Poli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EEE Policy on IP from standa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ities and meeting sche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ou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 DASC Steering Committee - 19 Sep 2005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629A8-89FA-47A7-BED9-919FA10C28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 Award Pres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. Bhasker, eSilicon Co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-CS Meritorious Service Certif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echnical contributions and continued leadership in development of electronic design automatio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 of P1364.1 Verilog Synthesis Interoperability Working Group from 1998 to 200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 of P1076.6 VHDL Synthesis Interoperability Working Group from 1996 to 200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ber of P1076, P1076.3, P1076.4 Working groups during 1990s to present, contributing to technical development and revision of the standard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 DASC Steering Committee - 19 Sep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00126-44AC-4731-871C-C1B4387EC1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nutes, 17 Jun 2005 Mee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Minute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 www.dasc.or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Business Ari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project docu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ndards Companion, “Retention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ys “should” discard – is this mandator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ent slides linked at www.dasc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 DASC Steering Committee - 19 Sep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81B6A-02F1-406E-BA6F-6344971253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5. Business Conducted by Emai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-S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yProject roll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1800 recir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1647 ballot group 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staff liaison (Sue Voge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1685 SPIRIT approved by Nes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to extend 1076.4 pending Cor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for nominations for SASB and standing committe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 DASC Steering Committee - 19 Sep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14C3E-A11C-4652-BDE6-77FB3E0B8E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5. Business Conducted by Emai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EEE-CS/SAB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type of new website (incl. collaboration servic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ll for contribution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EEE Comput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andards colum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cy law requirement to notify individuals if information unlawfully acces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5 Vitality Survey to be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 DASC Steering Committee - 19 Sep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B04B1-A7DC-4E73-96B0-20F2DAD78B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5. Business Conducted by Emai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SC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c of email from TC93 re need to formalize dual-logo std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 DASC Steering Committee - 19 Sep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16591-6F88-4F36-99A2-B633DE2025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6. Financial Repo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1341000"/>
            <a:ext cx="777240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r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z Levia (Treasur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r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 DASC Steering Committee - 19 Sep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97A84-CBB7-4BB7-BF48-E538892332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01:29:52Z</dcterms:created>
  <dc:creator>Peter Ashenden</dc:creator>
  <dc:description/>
  <dc:language>en-US</dc:language>
  <cp:lastModifiedBy>Peter Ashenden</cp:lastModifiedBy>
  <dcterms:modified xsi:type="dcterms:W3CDTF">2005-09-21T02:56:22Z</dcterms:modified>
  <cp:revision>114</cp:revision>
  <dc:subject/>
  <dc:title>Slide 1</dc:title>
</cp:coreProperties>
</file>