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6AF-000A-4267-808A-33381919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621-631F-49D6-B2CA-A23B2D33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099-005C-4BE2-9AB6-E6E69DB4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AD0D-A2DB-4087-83BC-3CF1CE42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18F-0EBD-406F-A805-3063B5A2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B63-9188-4904-B4D1-7DDB8161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26A2-24B0-4313-A462-EF0DE350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221-FD3D-4D9E-AA28-E3C9F5E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BFE-42A1-4A73-80A0-79E6DA46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9A4-44BD-4774-A69F-DB5E5AE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C394-F88A-4D5B-9CDB-F7A8FB4C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950-2034-4727-B7E6-8883BB7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24CD-FADD-4CA4-93D1-CB2FD918C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ncial Report: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h Basis account for 2005 (until Aug 3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p from march yet to be account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1760" y="1295280"/>
            <a:ext cx="31780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5: y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7238880" cy="383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all income is 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69 members are paid fo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e to date in 2005: $138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 $1K more with end of year renew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all expense is low so f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7:50:24Z</dcterms:created>
  <dc:creator>Synopsys Employee</dc:creator>
  <dc:description/>
  <dc:language>en-US</dc:language>
  <cp:lastModifiedBy>ozlevia</cp:lastModifiedBy>
  <dcterms:modified xsi:type="dcterms:W3CDTF">2005-09-14T17:53:32Z</dcterms:modified>
  <cp:revision>12</cp:revision>
  <dc:subject/>
  <dc:title>Financial Report</dc:title>
</cp:coreProperties>
</file>