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598C-67B4-4FC5-BB48-876FFB9CC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7E45-C3B8-41EC-A3C5-FC0C5F7D0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3F05-20C6-40F4-BC37-6ECFF8081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F1BCC-7425-40B6-8C07-18B9D7BC8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84F64-6CF8-48BA-9A57-6BA0D33F77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66EC-AD70-46C2-B8EA-91ABB64D11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538E-69EE-4685-8919-72D998011E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D90CC-4CB3-4406-ABD0-CD8DA74063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CBA5-B81B-4C70-8C73-D4BC8F5195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F90A-6A04-4E68-ABD1-C77873BBE5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DB01-7933-4B10-86E5-754B13C99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A56B-0A4B-40B0-9A61-45536EA16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BA13-F316-4B4A-A6EC-AADF32C51E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DE723-753E-4210-B680-7CFF21218C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A7CE-F3B2-4A6C-A64B-E911B80C5F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958D-6E7D-4D55-BA97-84CABDDE6A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499FF-F2D8-43A4-9CF3-778A192F5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E2AA-6C91-49D8-88D3-0208B7564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05AAF-BBD7-4CAB-B11C-3D9BDB8A0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8EB1-F809-461C-B233-B30ECBA12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1DA4-6738-43D1-88FE-03E7764E4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9702-993F-4825-BF61-0DC2CCB15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DC62-955F-4E0D-8D52-349614BE83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97B4-EE6E-4897-AC80-B75A3BD57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4041-B8E1-446A-A6B1-EB5F78778FC6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84C4-817E-47EF-8BBA-B04CAAAD14AB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5360" y="5791320"/>
            <a:ext cx="8686800" cy="838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5360" y="228600"/>
            <a:ext cx="8686800" cy="2514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12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da.org/SystemC" TargetMode="External"/><Relationship Id="rId2" Type="http://schemas.openxmlformats.org/officeDocument/2006/relationships/hyperlink" Target="http://www.eda.org/SystemC" TargetMode="External"/><Relationship Id="rId3" Type="http://schemas.openxmlformats.org/officeDocument/2006/relationships/hyperlink" Target="http://www.eda.org/System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8305920" cy="1373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EEE P1666 SystemC Standardization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rking Group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               Status and Plans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5144760"/>
            <a:ext cx="6719760" cy="436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19, 200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673520"/>
            <a:ext cx="28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ctor Berman, P1666 Chair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7156-2E22-4A22-ACC9-E343892136AA}" type="slidenum">
              <a:t>1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EEE P1666 SystemC Working Group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oals of the Working Grou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Near Term: Develop an IEEE Standard based on the SystemC 2.1 L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onger Term: Provide formal standards body forum for future SystemC related standard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tructure of Working Group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P1666 is an entity based WG jointly sponsored by CAG and DASC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oting members must be IEEE-SA Corporate program entiti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250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r information see the web site at: 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hlinkClick r:id="rId2"/>
              </a:rPr>
              <a:t>www.eda.org</a:t>
            </a:r>
            <a:r>
              <a:rPr b="0" lang="en-US" sz="2000" spc="-1" strike="noStrike" u="sng">
                <a:solidFill>
                  <a:srgbClr val="4d4d4d"/>
                </a:solidFill>
                <a:uFillTx/>
                <a:latin typeface="Arial"/>
                <a:hlinkClick r:id="rId3"/>
              </a:rPr>
              <a:t>/SystemC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79A8-4955-42ED-9C02-AB1D5EAB8059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EEE P1666 SystemC Working Group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36480"/>
            <a:ext cx="8229600" cy="457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lnSpc>
                <a:spcPct val="9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9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Major Mileston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PAR approved by NesCom November 18, 2004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Draft LRM transferred from OSCI to WG April 25, 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allot constituency completed  and approved June 12, 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allot complete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9 voting members: 2 negative, 6 positive, 1 abstention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Ballot resolution completed – new draft circulated for WG approva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90000"/>
              </a:lnSpc>
              <a:spcAft>
                <a:spcPts val="112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Pla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90000"/>
              </a:lnSpc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WG to meet September 23, 2005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Get approval to do recirculation ballot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Should get ballot completed end of October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lnSpc>
                <a:spcPct val="90000"/>
              </a:lnSpc>
              <a:spcAft>
                <a:spcPts val="876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Targeting December RevCom meeting but will be tight –deadline Oct 17, 2005.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80C8-9BBB-4925-9E57-23B15DE49AAF}" type="slidenum">
              <a:t>3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8:01:23Z</dcterms:created>
  <dc:creator>Kathleen Meade</dc:creator>
  <dc:description/>
  <dc:language>en-US</dc:language>
  <cp:lastModifiedBy>Cadence Design Systems, Inc</cp:lastModifiedBy>
  <dcterms:modified xsi:type="dcterms:W3CDTF">2005-09-19T16:35:00Z</dcterms:modified>
  <cp:revision>258</cp:revision>
  <dc:subject>SystemVerilog AE Training</dc:subject>
  <dc:title>An Introduction to SystemVeril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68041395</vt:r8>
  </property>
  <property fmtid="{D5CDD505-2E9C-101B-9397-08002B2CF9AE}" pid="3" name="_AuthorEmail">
    <vt:lpwstr>vberman@cadence.com</vt:lpwstr>
  </property>
  <property fmtid="{D5CDD505-2E9C-101B-9397-08002B2CF9AE}" pid="4" name="_AuthorEmailDisplayName">
    <vt:lpwstr>Victor Berman</vt:lpwstr>
  </property>
  <property fmtid="{D5CDD505-2E9C-101B-9397-08002B2CF9AE}" pid="5" name="_EmailSubject">
    <vt:lpwstr>DASC-SC meeting materials</vt:lpwstr>
  </property>
  <property fmtid="{D5CDD505-2E9C-101B-9397-08002B2CF9AE}" pid="6" name="_NewReviewCycle">
    <vt:lpwstr/>
  </property>
  <property fmtid="{D5CDD505-2E9C-101B-9397-08002B2CF9AE}" pid="7" name="_PreviousAdHocReviewCycleID">
    <vt:r8>1889503851</vt:r8>
  </property>
</Properties>
</file>