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67C-61DC-4F93-B1C5-5ACDF94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3A2-CDC1-44E8-B8C3-F1938055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E9A-230F-4BCC-8BAA-EB954471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295-6CB9-435C-9654-8F60C533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2AA-34D7-43D1-AD7D-2AB97370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D2E-2814-43CC-808D-F773911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B85F-849E-478E-8BB8-36B26B9E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506-4120-46ED-87BD-E9705D92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848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348-2AB0-44A5-95FE-679D565E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9964-B234-4F1A-A553-972C963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324-418E-4726-8C46-7410CA99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414-0FE9-4C91-A464-3ED8D16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462F-72FF-4F96-958E-F9D908806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WG1603 updat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F now approved as IEEE/IEC dual logo standar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e Alex’ repor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F reference implementation project under work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isting commercial ALF applications cover only subset of IEEE 1603-2003 spe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project targets full implementation of spe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pletion planned e/o December 200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iscovered a few errata (&lt; 10) in spec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waiting Peter’s instruction for errata handling procedu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16:31:14Z</dcterms:created>
  <dc:creator>roethigw</dc:creator>
  <dc:description/>
  <dc:language>en-US</dc:language>
  <cp:lastModifiedBy>roethigw</cp:lastModifiedBy>
  <dcterms:modified xsi:type="dcterms:W3CDTF">2005-09-19T16:40:59Z</dcterms:modified>
  <cp:revision>3</cp:revision>
  <dc:subject/>
  <dc:title>PowerPoint Presentation</dc:title>
</cp:coreProperties>
</file>