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CC98-7C79-4964-84B8-33F68DF2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EEE6-52E2-4846-A75C-56758806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67BB-33DF-41BE-85FD-A2A29222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0B18-63F7-49F5-BE40-8107B8D7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33E1-B5D7-4622-9F7B-66C7F8C2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42CA-8D65-4967-AE70-EEAC8C9E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D690-06A2-4F19-9A44-2FE60B3F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7A6D-A5E7-404A-8552-F3BE8B5D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E013-C665-424B-894A-B912404E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FC1E-5275-4356-8F7A-71F7E4B0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19CF-A95E-418D-8BA3-41565B54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1C78-C1B5-472E-87BD-91F769E3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669B-0E7D-45DC-BBEC-300F6F0983B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 June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B398-041D-405A-94AA-64386F091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jay@cadence.com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1076.4 VIT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66880" y="4114800"/>
            <a:ext cx="3657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ayharsh Varik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ajay@cadenc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 September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1076.4 VITAL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Group has participation 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ter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de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ntor Graphic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Xilinx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sted RevCom to extend current standard till 31-Dec-200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s going for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orking on 6 IRs filed on VITAL 200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lan to complete analysis by end October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6T05:15:56Z</dcterms:created>
  <dc:creator>Dennis Brophy</dc:creator>
  <dc:description/>
  <dc:language>en-US</dc:language>
  <cp:lastModifiedBy>Cadence Design Systems, Inc</cp:lastModifiedBy>
  <dcterms:modified xsi:type="dcterms:W3CDTF">2005-09-16T13:08:57Z</dcterms:modified>
  <cp:revision>67</cp:revision>
  <dc:subject/>
  <dc:title>DASC Patent Policy</dc:title>
</cp:coreProperties>
</file>